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1A4C-FD1B-4B14-BEA8-7FCC970A7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B2A5-5DA4-4BAC-965C-95C71605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589C-0639-43E3-86FE-86FE26357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31F9-3BEE-473F-A9F1-552C645F6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8245-1C83-44CD-A75C-2BE9BBF8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9163-ADFE-497D-AB8A-A6257C6F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D4A2-F285-46E1-803F-BE4E2196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2D29-D19D-4E16-9633-85D8A441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4B9A-F894-4BD2-A16B-D715AA6F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711D-0A12-43B7-959C-5F952367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745A-931E-4720-8036-E8F6B871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9165-F5B0-422D-9D29-8A6F1077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AAD7-2401-438A-BDFE-49EAD51B1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vebird 14/30…this will change when more work is presen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pa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tty good.  More work should have been done on your websites.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m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much here.  I only saw a few ideas.  Mainly just pictures.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n’t seen this yet…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l…things did LOOK good.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resentation done…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12:53:01Z</dcterms:created>
  <dc:creator>nbdoe</dc:creator>
  <dc:description/>
  <dc:language>en-US</dc:language>
  <cp:lastModifiedBy>nbdoe</cp:lastModifiedBy>
  <dcterms:modified xsi:type="dcterms:W3CDTF">2007-05-11T12:53:04Z</dcterms:modified>
  <cp:revision>1</cp:revision>
  <dc:subject/>
  <dc:title>Election 2007</dc:title>
</cp:coreProperties>
</file>